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5699-3FCE-4BC6-BFF5-348EB917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D703-BEBA-4268-ABE2-6B347671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C61C-ED34-477D-823D-0D1E6A96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6D72-7251-4911-8551-F5CA567AA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D596-9E84-4FF8-96C4-BE5CEA23A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E71A-149F-443E-857A-9F1C8E04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92A0-0088-4991-AE37-7EA13CC0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2215-A07E-4CD1-80F5-262777B0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8DBC-D8C1-41F6-ADB2-0FF0D340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A88C-9817-43CA-AA23-BDB45979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0F7D-D4FF-4027-ADE0-D69308AB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50E1-4004-4E2C-A88C-9783D20A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AFC4-0256-4203-AF93-05541EAF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5785-7482-4833-AC7F-B6B6FCBF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1DE1-F8E0-4D2F-8617-A191431A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4490-1721-4536-AB97-30D15456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9487-2501-4E81-9680-199ACC05F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DCC4-286B-4387-96C1-25224B05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C6C7-7674-4297-B9ED-816E7BCA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6BE0-5C9B-4FA6-B9CA-544E1903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97AA-53D1-4DF0-8473-1EB9D304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A9BA-DF60-45E3-BEE9-1867AFD5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B311-E4D5-4744-8EDA-C94218F4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FB8E-7480-4A14-AF89-704C4A88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AD2B-F8D1-4987-B5D7-DA1431DAFA9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F473-5805-41DF-8999-115DA482526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11280" y="900000"/>
            <a:ext cx="7993080" cy="769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600" spc="-1" strike="noStrike">
                <a:solidFill>
                  <a:srgbClr val="ffffff"/>
                </a:solidFill>
                <a:latin typeface="Tahoma"/>
                <a:cs typeface="????Boutros Rokaa"/>
              </a:rPr>
              <a:t>نشيد القيامة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Tahoma"/>
                <a:cs typeface="????Boutros Rokaa"/>
              </a:rPr>
              <a:t>بعد أيام ثلاث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َعْدَ أَيَّامٍ ثلاثة صَارَ تَارِيخٌ جَدِيد. كَانَ مَوْتٌ، كَانَ بُغْضٌ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َمْ يَكُنْ يَسُوعُ قَام ثمَّ قَام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َأَتَى بالحُبِّ يَهْدِينَا، هَللويا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374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ُؤْمِنُ باللهِ فِي ثالُوثِه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َبُّنَا الْفَادِي وَآبٌ يَرْتَضِينَ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ُوحُهُ القُدُّوسُ يَحْمِينَا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ِنَّهُ الحَقُّ وَآمَالُ الْقِيَامَة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135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َبُّنَا قَدْ مَاتَ فِي ظِلِّ الْقِيَامَة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َمْ يَمُتْ، قَامَ عِنْدَ الْفَجْرِ،</a:t>
            </a:r>
            <a:br>
              <a:rPr sz="8000"/>
            </a:b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َيْنَ الْجُنْدِ، رُغْمَ الْمَوْتِ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ِنْدَ الفَجْرِ قَامَ. بَيْنَ الْجُنْدِ قَامِ،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ُغْمَ الْمَوْتِ قَامَ، هللويا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1374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ُؤْمِنُ باللهِ فِي ثالُوثِه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َبُّنَا الْفَادِي وَآبٌ يَرْتَضِينَ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ُوحُهُ القُدُّوسُ يَحْمِينَا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ِنَّهُ الحَقُّ وَآمَالُ الْقِيَامَة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1203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سَارَعَتْ فِي الْفَجْرِ نَحْوَ الْقَبْرِ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كُلُّ الْمَرْيَمَاتْ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ea typeface="Akhbar MT"/>
              </a:rPr>
              <a:t>"أَيْنَ يَسُوعُ "؟ سَأَلْنَ: "أَيْنَ هُو"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َالُوا لَهُنَّ: "قَامَ، حَقّاً قَام"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365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ِنْدَ الفَجْرِ قَامَ.</a:t>
            </a:r>
            <a:br>
              <a:rPr sz="10600"/>
            </a:b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َيْنَ الْجُنْدِ قَامِ، 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6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ُغْمَ الْمَوْتِ قَامَ، هللويا.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1374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أُؤْمِنُ باللهِ فِي ثالُوثِه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َبُّنَا الْفَادِي وَآبٌ يَرْتَضِينَ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ُوحُهُ القُدُّوسُ يَحْمِينَا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ff"/>
                </a:solidFill>
                <a:latin typeface="Times New Roman"/>
                <a:cs typeface="Akhbar MT"/>
              </a:rPr>
              <a:t>إِنَّهُ الحَقُّ وَآمَالُ الْقِيَامَة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7T12:38:19Z</dcterms:created>
  <dc:creator>Charbel Azar</dc:creator>
  <dc:description/>
  <dc:language>en-US</dc:language>
  <cp:lastModifiedBy>-</cp:lastModifiedBy>
  <dcterms:modified xsi:type="dcterms:W3CDTF">2003-04-27T09:26:49Z</dcterms:modified>
  <cp:revision>9</cp:revision>
  <dc:subject/>
  <dc:title>Slide 1</dc:title>
</cp:coreProperties>
</file>